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4B4-97C2-4A7E-B5F3-5E0486D7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59D-80F5-40DE-9797-1EE3FE59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C14-5608-4CA4-B5D0-46C66DE3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938-CDCE-4316-AAB9-2A8C147B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2972-DB5F-4C9A-A61D-6E453117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78BB-9013-41F1-B04B-3E1384E7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2C8B-7A9F-4B35-A02D-B46313C0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F3A5-93A6-4E10-A1C5-0160B70B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FC06-E49B-4AB1-8244-10AAC826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08C0-69F6-4BCC-A26C-295364FF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45E8-47F8-4188-B20B-969C22FE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396-B3C6-4777-ACF0-F9EA61FA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80AB-FD8B-434F-BD16-1FA34C29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DD6E-5487-47F5-AA8C-308A58C9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7F85-BD43-4409-B751-08F02FA6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9A32-07C6-4C1A-8155-010D06DC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9D40-5713-44CB-AB0A-AB1F16B0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E35-1055-486F-8317-76D6D448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7AC-3C93-45A6-A63B-98C75B2A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FDC-D1B5-4A2D-9BD5-713ED7D4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271-567F-4406-99AE-278BA6CE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A3F-D829-4C59-A5B0-E2CB9E91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BC0-6370-4B72-897A-A8E3B30B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30E-5907-4810-A6D2-26CEB736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75A9-E7B1-4D9B-9165-A37A481A2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1F33-843C-409F-8222-B4FBDAACF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28.xml"/><Relationship Id="rId9" Type="http://schemas.openxmlformats.org/officeDocument/2006/relationships/slide" Target="slide20.xml"/><Relationship Id="rId10" Type="http://schemas.openxmlformats.org/officeDocument/2006/relationships/slide" Target="slide36.xml"/><Relationship Id="rId11" Type="http://schemas.openxmlformats.org/officeDocument/2006/relationships/slide" Target="slide14.xml"/><Relationship Id="rId12" Type="http://schemas.openxmlformats.org/officeDocument/2006/relationships/slide" Target="slide22.xml"/><Relationship Id="rId13" Type="http://schemas.openxmlformats.org/officeDocument/2006/relationships/slide" Target="slide30.xml"/><Relationship Id="rId14" Type="http://schemas.openxmlformats.org/officeDocument/2006/relationships/slide" Target="slide38.xml"/><Relationship Id="rId15" Type="http://schemas.openxmlformats.org/officeDocument/2006/relationships/slide" Target="slide16.xml"/><Relationship Id="rId16" Type="http://schemas.openxmlformats.org/officeDocument/2006/relationships/slide" Target="slide24.xml"/><Relationship Id="rId17" Type="http://schemas.openxmlformats.org/officeDocument/2006/relationships/slide" Target="slide32.xml"/><Relationship Id="rId18" Type="http://schemas.openxmlformats.org/officeDocument/2006/relationships/slide" Target="slide40.xml"/><Relationship Id="rId19" Type="http://schemas.openxmlformats.org/officeDocument/2006/relationships/slide" Target="slide18.xml"/><Relationship Id="rId20" Type="http://schemas.openxmlformats.org/officeDocument/2006/relationships/slide" Target="slide26.xml"/><Relationship Id="rId21" Type="http://schemas.openxmlformats.org/officeDocument/2006/relationships/slide" Target="slide34.xml"/><Relationship Id="rId22" Type="http://schemas.openxmlformats.org/officeDocument/2006/relationships/slide" Target="slide42.xml"/><Relationship Id="rId23" Type="http://schemas.openxmlformats.org/officeDocument/2006/relationships/slide" Target="slide44.xml"/><Relationship Id="rId24" Type="http://schemas.openxmlformats.org/officeDocument/2006/relationships/slide" Target="slide46.xml"/><Relationship Id="rId2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318960"/>
            <a:ext cx="77580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Britannic Bold"/>
              </a:rPr>
              <a:t>Jeopard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838080" y="1523880"/>
          <a:ext cx="777420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77420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8"/>
          <p:cNvSpPr/>
          <p:nvPr/>
        </p:nvSpPr>
        <p:spPr>
          <a:xfrm>
            <a:off x="6843600" y="17524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9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3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4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9"/>
          <p:cNvSpPr/>
          <p:nvPr/>
        </p:nvSpPr>
        <p:spPr>
          <a:xfrm>
            <a:off x="1066680" y="16002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pe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286000" y="1676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Miscellaneous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4114800" y="1523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3"/>
          <p:cNvSpPr/>
          <p:nvPr/>
        </p:nvSpPr>
        <p:spPr>
          <a:xfrm>
            <a:off x="5562720" y="1523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Brain B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7086600" y="15238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ules of gram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5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347760" y="1523880"/>
            <a:ext cx="3634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Definat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Concio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True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Embarass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Reccom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Acommad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Benif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267080" y="205740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ese are all spelled wro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Identify the spelling errors</a:t>
            </a: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5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2780640" y="1905120"/>
            <a:ext cx="3899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Definite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Conscio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Tru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Embarrass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Recomm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Accommod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Benef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Question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-293760" y="2971800"/>
            <a:ext cx="98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at rule does the word Receive follow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754280" y="3168720"/>
            <a:ext cx="54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I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before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E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, except after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Question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407160" y="3200400"/>
            <a:ext cx="865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What is Enthusiastic shortened?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335600" y="274320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You can’t shorten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“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ere is no creature enthused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-228960" y="2743200"/>
            <a:ext cx="91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What is the past tense of drag?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650960" y="3168720"/>
            <a:ext cx="724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ffff"/>
                </a:solidFill>
                <a:uFillTx/>
                <a:latin typeface="Britannic Bold"/>
              </a:rPr>
              <a:t>Dragged</a:t>
            </a:r>
            <a:r>
              <a:rPr b="0" lang="en-US" sz="6000" spc="-1" strike="noStrike">
                <a:solidFill>
                  <a:srgbClr val="00ffff"/>
                </a:solidFill>
                <a:latin typeface="Britannic Bold"/>
              </a:rPr>
              <a:t>, not </a:t>
            </a:r>
            <a:r>
              <a:rPr b="0" lang="en-US" sz="6000" spc="-1" strike="noStrike" u="sng">
                <a:solidFill>
                  <a:srgbClr val="00ffff"/>
                </a:solidFill>
                <a:uFillTx/>
                <a:latin typeface="Britannic Bold"/>
              </a:rPr>
              <a:t>drug</a:t>
            </a:r>
            <a:r>
              <a:rPr b="0" lang="en-US" sz="6000" spc="-1" strike="noStrike">
                <a:solidFill>
                  <a:srgbClr val="00ffff"/>
                </a:solidFill>
                <a:latin typeface="Britannic Bold"/>
              </a:rPr>
              <a:t>.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$400 Question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648800" y="316872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do you do to the word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occ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en changing the form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(except for occur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2654640" y="2819520"/>
            <a:ext cx="342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Double the </a:t>
            </a:r>
            <a:r>
              <a:rPr b="0" lang="en-US" sz="4000" spc="-1" strike="noStrike" u="sng">
                <a:solidFill>
                  <a:srgbClr val="00ffff"/>
                </a:solidFill>
                <a:uFillTx/>
                <a:latin typeface="Britannic Bold"/>
              </a:rPr>
              <a:t>r</a:t>
            </a: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2895480" y="388620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*occur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*occur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*occur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*occur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561960" y="2819520"/>
            <a:ext cx="856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How do you spell the grade befo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first grad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Question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045080" y="2514600"/>
            <a:ext cx="7846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kind of grammar part is thei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Expletive (filler wor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ossessive pro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ossessive 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747440" y="3168720"/>
            <a:ext cx="66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B) Possessive pronou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$200 Question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1011600" y="2666880"/>
            <a:ext cx="788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eople who are under medical ca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ati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ash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2700360" y="320040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Britannic Bold"/>
              </a:rPr>
              <a:t>C) Patient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943640" y="2514600"/>
            <a:ext cx="4797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A government group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Counc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Couns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Conse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318040" y="2819520"/>
            <a:ext cx="33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Britannic Bold"/>
              </a:rPr>
              <a:t>A) Counci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Question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927800" y="2362320"/>
            <a:ext cx="4659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Suspicion is only a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A) Ver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Indirect Obje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Nou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2737440" y="2743200"/>
            <a:ext cx="27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Britannic Bold"/>
              </a:rPr>
              <a:t>C) Nou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$100 Question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197280" y="2743200"/>
            <a:ext cx="887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In what place in a title do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always capitalize words and what wo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do you never capitaliz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38880" y="2133720"/>
            <a:ext cx="75567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*Capitalize the first and last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Don’t capitalize a, an, th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Don’t capitalize the Fanboys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1889280" y="3121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295280" y="31240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Kindergarten with a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t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, not a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d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$200 Question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624240" y="2666880"/>
            <a:ext cx="85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en using the word “myself,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word must  you put in front of it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2412360" y="2743200"/>
            <a:ext cx="353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The word “I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526680" y="2743200"/>
            <a:ext cx="83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en do you use whom and who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688760" y="3168720"/>
            <a:ext cx="59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*Use whom in place of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*Use who in place of 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Question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1725480" y="3168720"/>
            <a:ext cx="68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How do you correctly fill out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envelope? (12 step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m_button"/>
          <p:cNvPicPr/>
          <p:nvPr/>
        </p:nvPicPr>
        <p:blipFill>
          <a:blip r:embed="rId1"/>
          <a:stretch/>
        </p:blipFill>
        <p:spPr>
          <a:xfrm>
            <a:off x="152280" y="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-355680" y="923760"/>
            <a:ext cx="9841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1) Blue or black 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2) Title for addresse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3) All capitals, block sty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4) No punc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5) Business name on 2</a:t>
            </a:r>
            <a:r>
              <a:rPr b="0" lang="en-US" sz="2400" spc="-1" strike="noStrike" baseline="30000">
                <a:solidFill>
                  <a:srgbClr val="00ffff"/>
                </a:solidFill>
                <a:latin typeface="Britannic Bold"/>
              </a:rPr>
              <a:t>nd</a:t>
            </a: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6) First and last name for person addre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7) Block printing spaced leg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8) Two capital letters for state ab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9) Zip code on same line as the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10) Four digit code is box number plus enough zeroes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make four digi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11) Abbreviations for common words such as street, avenu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and boulevar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12) P.O. box number by itself on the line above the city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134280" y="2743200"/>
            <a:ext cx="835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ould you use can’t hardly or ca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hardly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3048120" y="30481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Can hard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-213840" y="2971800"/>
            <a:ext cx="96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How do you separate a noun from the rest of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sentence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2692440" y="2666880"/>
            <a:ext cx="374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Use a com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-252000" y="2666880"/>
            <a:ext cx="9291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Even though the spelling of Moral 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Morale differ by only one letter, thei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Definitions differ by a lot. Define both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742680" y="3102120"/>
            <a:ext cx="857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When a sentence begins with there, what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the rule?</a:t>
            </a: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975960" y="2971800"/>
            <a:ext cx="814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e verb must agree in number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e noun that follow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698400" y="2971800"/>
            <a:ext cx="804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en do you capitalize seasons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1759680" y="27432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Only when personifi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5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770840" y="3168720"/>
            <a:ext cx="67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do you avoid using in “if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clauses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5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2520720" y="2819520"/>
            <a:ext cx="383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Would have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Final Jeopar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26360" y="2438280"/>
            <a:ext cx="810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is author wrote, “If one man kill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another, it  murder, but if a hundr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ousand men kill another hundr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act of glory!?”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Final Jeopardy 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64040" y="2766960"/>
            <a:ext cx="464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-224280" y="2971800"/>
            <a:ext cx="9330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Moral – pertains to sense of right o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Morale – pertains to persons mood o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                  </a:t>
            </a: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level of spirit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853920" y="2971800"/>
            <a:ext cx="81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is the way to remember how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spell congratulation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889280" y="3168720"/>
            <a:ext cx="474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You say congrat’s not congrad’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-278280" y="2743200"/>
            <a:ext cx="1002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en changing mischief to mischievous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at letter do you drop?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3619440" y="2825640"/>
            <a:ext cx="24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The “F.”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12</cp:lastModifiedBy>
  <dcterms:modified xsi:type="dcterms:W3CDTF">2010-05-19T18:54:38Z</dcterms:modified>
  <cp:revision>21</cp:revision>
  <dc:subject/>
  <dc:title>Jeopardy</dc:title>
</cp:coreProperties>
</file>